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480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480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EA01-1173-4B8A-A7F6-82CBB713342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 diagramme montre que la définition des concepts d'UML s'appuie sur ceux de Core, mais c'est aussi vrai pour le MOF et d'autres spécifications de l'OMG telle que CW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a définition des profiles, qui s'appuie aussi sur Core est extrait d'UML car elle peut être utilisée indépendam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 profile se représente comme un package stéréotypé &lt;&lt;profile&gt;&gt; (ex: EJ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e metaclasse étendue peut se représenter avec le stéréotype &lt;&lt;metaclass&gt;&gt; (ex: 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  stéréotype se représente comme une classe stéréotypée &lt;&lt;stereotype&gt;&gt; (ex: Ho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 stéréotype peut être abstrait (ex: Be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{required} sur le lien d'extension indique que l'application du stéréotype est obligatoire. Ici, tout composant présent dans un package qui applique le profile EJB doit être stéréotypé Bean, Entity ou S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solution est une tagged value dont la valeur (2) est montrée dans une note associée à la classe StopWatch stéréotypée &lt;&lt;clock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 est une métaclass U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ock est un stéréotype de c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topWatch est une classe de modèle (stéréotypée &lt;&lt;clock&gt;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métamodèle de référence n'est pas forcément UML, cela peut-être tout méta-modèle aligné sur le MOF : CWM, M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 stéréotype peut aussi étendre un autre stéré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 UML 2.0, les stéréotypes étant des classes, il est possible de définir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 opérations qui peuvent contenir du code de manipulation de modèle (OCL, 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 associations (redéfinition d'associations du métamodèle de référ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 contrai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0CA7-992C-42C1-858C-34B3723D2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E8E5-0BD5-4759-B322-D6C4C52C3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FC52-6CF1-44D8-A68B-F68A15D8E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7A11-EAD5-4654-84C4-B35C9D26E7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029A-8D31-4352-958B-2C97DF7B42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FE3A-FF65-46B8-9B3C-32C75F61F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A667-B17A-4768-8E0F-E6636AE29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8449-137A-4A3B-887E-7EC7732A6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70E0-6BC7-4B33-A51B-BDFFA6862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CFB8-FD9E-4B27-A086-ABCF241E4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E3E7-1E2B-45A8-A974-48BA50D78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DC48-9B0A-4E8F-8711-D661C6E74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UML Pro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E542B7EC-0A14-4A8B-A265-E900CB7B2BA8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53200" y="661356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SOFT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ww@softeam.co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The UML Profile tech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2"/>
                </a:solidFill>
                <a:latin typeface="Comic Sans MS"/>
              </a:rPr>
              <a:t>SOF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144 Ave des Champs Elys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75008 Paris,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@softea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6345360"/>
            <a:ext cx="1709640" cy="51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FBC8-33BC-4B77-B281-46AACABB52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MOF/Profile alignment (benefit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6240" y="1947960"/>
            <a:ext cx="88977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re/MOF Packag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Profil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-380880">
              <a:spcBef>
                <a:spcPts val="42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re/MOF Class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Stereotype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fr-FR" sz="1700" spc="-1" strike="noStrike">
                <a:solidFill>
                  <a:srgbClr val="000066"/>
                </a:solidFill>
                <a:latin typeface="Comic Sans MS"/>
              </a:rPr>
              <a:t>(restricted usage)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-380880">
              <a:spcBef>
                <a:spcPts val="42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re/MOF 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Property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Property </a:t>
            </a:r>
            <a:r>
              <a:rPr b="0" lang="fr-FR" sz="1700" spc="-1" strike="noStrike">
                <a:solidFill>
                  <a:srgbClr val="000066"/>
                </a:solidFill>
                <a:latin typeface="Comic Sans MS"/>
              </a:rPr>
              <a:t>(was tagged definition)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-380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re/MOF Operation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Oper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-380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re/MOF Constraint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Constrain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-380880">
              <a:spcBef>
                <a:spcPts val="42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re/MOF association</a:t>
            </a: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Association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fr-FR" sz="1700" spc="-1" strike="noStrike">
                <a:solidFill>
                  <a:srgbClr val="000066"/>
                </a:solidFill>
                <a:latin typeface="Comic Sans MS"/>
              </a:rPr>
              <a:t>(restricted usage)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-380880">
              <a:spcBef>
                <a:spcPts val="42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Core/MOF association</a:t>
            </a:r>
            <a:r>
              <a:rPr b="0" lang="fr-FR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Extension </a:t>
            </a:r>
            <a:r>
              <a:rPr b="0" lang="fr-FR" sz="1700" spc="-1" strike="noStrike">
                <a:solidFill>
                  <a:srgbClr val="000066"/>
                </a:solidFill>
                <a:latin typeface="Comic Sans MS"/>
              </a:rPr>
              <a:t>(specific "pattern")</a:t>
            </a:r>
            <a:endParaRPr b="0" lang="en-US" sz="17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80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2CC1-94BB-4867-A3B1-DC0C2C6B5735}" type="slidenum">
              <a:t>10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7" dur="1" fill="hold"/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Rationale for Using Profiles Vs MOF (benefit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4400" y="1116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Profile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re used for extending the UML language (the « reference metamodel »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re supported by UML Case tool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Guarantee the UML conformance of the extension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Provide a dynamic extension capacity (i.e. extending an existing model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Typical example: UML for a certain purpos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MOF extension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re used to create new metamodel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pply to any meta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New models are created from MOF extensions (no existing model updates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re supported by MetaCase tools or infrastructure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Typical example: New metamodel (e.g. DSL, workflow, UML, etc.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BFE2-EDE6-4C8D-8EAC-F4459541D50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: History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131480"/>
            <a:ext cx="8921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ML 1.0: (1999) Stereotypes and tagged values were defined as specific strings attached to ModelElements. Stereotypes were defined at the level of the model itself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ML1.4: (2002) The notion of UML profile was more formally defined. Profiles organize Stereotypes, which may contain tagged values. Tagged values can be directly extend model elements, without stereotyp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ML 2.0: (2005) Stereotypes are now defined at M2 (metaclass level). The Profile notion is completely formalized, in correspondence and conjunction with the metamodel (MOF). A notation is defined, and the “extension” capacity is formaliz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297A-2448-410B-AAAE-EFD7E0230C3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1576200">
            <a:off x="2141640" y="1295280"/>
            <a:ext cx="4495680" cy="495324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195800">
            <a:off x="2706480" y="3084120"/>
            <a:ext cx="3894120" cy="236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’s position within the UML2/MOF2 architectur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95480" y="1716120"/>
            <a:ext cx="5410440" cy="3722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5486400" y="1258920"/>
            <a:ext cx="4572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106640"/>
            <a:ext cx="2286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Super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486400" y="5144760"/>
            <a:ext cx="91440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5754600"/>
            <a:ext cx="2286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D760-EB8A-4129-A7DD-49F4F161D7E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 : Notations 1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686800" cy="445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52480" y="762120"/>
            <a:ext cx="9144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ro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676520" y="1066680"/>
            <a:ext cx="4572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914400"/>
            <a:ext cx="137160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Extens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1447920"/>
            <a:ext cx="4572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914400"/>
            <a:ext cx="1143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stere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12193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86160" y="914400"/>
            <a:ext cx="2023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Abstract stere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352680" y="1219320"/>
            <a:ext cx="106704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5105520"/>
            <a:ext cx="182880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Metaclass 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324120" y="3962160"/>
            <a:ext cx="76212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6019920"/>
            <a:ext cx="2286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Attribute = Tagged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962520" y="5410080"/>
            <a:ext cx="45720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6019920"/>
            <a:ext cx="1143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599840" y="5333760"/>
            <a:ext cx="3049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2EC1-D7A2-48C4-A2FF-47C09F00AC5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 : Notations 2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8376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fining the « Clock » stereotyp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pplying the Clock stereotype on the StopWatch 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416268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48120" y="4876920"/>
            <a:ext cx="323856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3D83-DE4B-4516-BD80-A88FADBF703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 : Example (Usage of UML extension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094200" y="2701800"/>
            <a:ext cx="3798720" cy="154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&lt;&lt;persistent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{storageMode = hash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7160" y="2781360"/>
            <a:ext cx="231840" cy="3207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94200" y="4235400"/>
            <a:ext cx="3800160" cy="64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&lt;&lt;identifier&gt;&gt;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umber :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0360" y="349740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Times New Roman"/>
              </a:rPr>
              <a:t>Stere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0000" y="39434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Times New Roman"/>
              </a:rPr>
              <a:t>Tagg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279520" y="3103560"/>
            <a:ext cx="1741680" cy="525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8600" y="3537000"/>
            <a:ext cx="920880" cy="850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609640" y="3927600"/>
            <a:ext cx="1006200" cy="193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08200" y="54673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7120" y="59133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Times New Roman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160" y="30481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Times New Roman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60320" y="50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Times New Roman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513160" y="3603600"/>
            <a:ext cx="1798560" cy="196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830680" y="4707000"/>
            <a:ext cx="2273040" cy="1292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523200" y="3476520"/>
            <a:ext cx="1731960" cy="1687320"/>
            <a:chOff x="6523200" y="3476520"/>
            <a:chExt cx="1731960" cy="1687320"/>
          </a:xfrm>
        </p:grpSpPr>
        <p:sp>
          <p:nvSpPr>
            <p:cNvPr id="138" name=""/>
            <p:cNvSpPr/>
            <p:nvPr/>
          </p:nvSpPr>
          <p:spPr>
            <a:xfrm>
              <a:off x="6523200" y="3493800"/>
              <a:ext cx="1731960" cy="1670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27880" y="3476520"/>
              <a:ext cx="1657440" cy="1631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67480" y="3524040"/>
              <a:ext cx="1633680" cy="1571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72160" y="3636720"/>
              <a:ext cx="164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he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Generate SQ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70040" y="43527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236680" y="4397400"/>
            <a:ext cx="4456080" cy="120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760" y="950760"/>
            <a:ext cx="8340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Below is a user model example, with extensions. That example supports extension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We will see how they are defined at the profile definition leve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778B-14A6-4D53-8A70-0D0B825BD56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 : Example (Definition of the UML extension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443320" y="1504800"/>
            <a:ext cx="1285560" cy="641520"/>
            <a:chOff x="2443320" y="1504800"/>
            <a:chExt cx="1285560" cy="641520"/>
          </a:xfrm>
        </p:grpSpPr>
        <p:sp>
          <p:nvSpPr>
            <p:cNvPr id="147" name=""/>
            <p:cNvSpPr/>
            <p:nvPr/>
          </p:nvSpPr>
          <p:spPr>
            <a:xfrm>
              <a:off x="2443320" y="1504800"/>
              <a:ext cx="1285560" cy="641520"/>
            </a:xfrm>
            <a:prstGeom prst="rect">
              <a:avLst/>
            </a:prstGeom>
            <a:solidFill>
              <a:srgbClr val="ffff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4400" y="1814400"/>
              <a:ext cx="4366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305840" y="1789200"/>
            <a:ext cx="1387440" cy="619200"/>
            <a:chOff x="7305840" y="1789200"/>
            <a:chExt cx="1387440" cy="619200"/>
          </a:xfrm>
        </p:grpSpPr>
        <p:sp>
          <p:nvSpPr>
            <p:cNvPr id="150" name=""/>
            <p:cNvSpPr/>
            <p:nvPr/>
          </p:nvSpPr>
          <p:spPr>
            <a:xfrm>
              <a:off x="7305840" y="1789200"/>
              <a:ext cx="1387440" cy="619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16160" y="2079720"/>
              <a:ext cx="73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Times New Roman"/>
                </a:rPr>
                <a:t>Proper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959120" y="2862360"/>
            <a:ext cx="2411280" cy="980640"/>
            <a:chOff x="1959120" y="2862360"/>
            <a:chExt cx="2411280" cy="980640"/>
          </a:xfrm>
        </p:grpSpPr>
        <p:sp>
          <p:nvSpPr>
            <p:cNvPr id="153" name=""/>
            <p:cNvSpPr/>
            <p:nvPr/>
          </p:nvSpPr>
          <p:spPr>
            <a:xfrm>
              <a:off x="1959120" y="2862360"/>
              <a:ext cx="2411280" cy="595080"/>
            </a:xfrm>
            <a:prstGeom prst="rect">
              <a:avLst/>
            </a:prstGeom>
            <a:solidFill>
              <a:srgbClr val="ffff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43040" y="2889000"/>
              <a:ext cx="12124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&lt;&lt;stereotype&gt;&gt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55800" y="3139920"/>
              <a:ext cx="79632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Times New Roman"/>
                </a:rPr>
                <a:t>persist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59120" y="3458880"/>
              <a:ext cx="2411280" cy="384120"/>
            </a:xfrm>
            <a:prstGeom prst="rect">
              <a:avLst/>
            </a:prstGeom>
            <a:solidFill>
              <a:srgbClr val="ffff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75680" y="3541680"/>
              <a:ext cx="231264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storageMode : KindOfStorag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443720" y="3254400"/>
            <a:ext cx="1387440" cy="619200"/>
            <a:chOff x="7443720" y="3254400"/>
            <a:chExt cx="1387440" cy="619200"/>
          </a:xfrm>
        </p:grpSpPr>
        <p:sp>
          <p:nvSpPr>
            <p:cNvPr id="159" name=""/>
            <p:cNvSpPr/>
            <p:nvPr/>
          </p:nvSpPr>
          <p:spPr>
            <a:xfrm>
              <a:off x="7443720" y="3254400"/>
              <a:ext cx="1387440" cy="619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03840" y="3286440"/>
              <a:ext cx="121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&lt;&lt;stereotype&gt;&gt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38560" y="3538800"/>
              <a:ext cx="75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Times New Roman"/>
                </a:rPr>
                <a:t>identifi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032360" y="1417680"/>
            <a:ext cx="3143160" cy="944640"/>
          </a:xfrm>
          <a:custGeom>
            <a:avLst/>
            <a:gdLst/>
            <a:ahLst/>
            <a:rect l="l" t="t" r="r" b="b"/>
            <a:pathLst>
              <a:path w="1785" h="585">
                <a:moveTo>
                  <a:pt x="1785" y="100"/>
                </a:moveTo>
                <a:lnTo>
                  <a:pt x="1699" y="0"/>
                </a:lnTo>
                <a:lnTo>
                  <a:pt x="0" y="0"/>
                </a:lnTo>
                <a:lnTo>
                  <a:pt x="0" y="585"/>
                </a:lnTo>
                <a:lnTo>
                  <a:pt x="1785" y="585"/>
                </a:lnTo>
                <a:lnTo>
                  <a:pt x="1785" y="100"/>
                </a:lnTo>
                <a:lnTo>
                  <a:pt x="1699" y="100"/>
                </a:lnTo>
                <a:lnTo>
                  <a:pt x="1699" y="0"/>
                </a:lnTo>
              </a:path>
            </a:pathLst>
          </a:cu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8400" y="1455840"/>
            <a:ext cx="797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Constra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53680" y="1681200"/>
            <a:ext cx="302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Times New Roman"/>
              </a:rPr>
              <a:t>{A persistent class, or one of its par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01920" y="1893960"/>
            <a:ext cx="233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Times New Roman"/>
              </a:rPr>
              <a:t>classes must have at least 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21360" y="2106720"/>
            <a:ext cx="199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Times New Roman"/>
              </a:rPr>
              <a:t>&lt;&lt;identifier&gt;&gt; attribute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84800" y="2376360"/>
            <a:ext cx="546120" cy="905040"/>
          </a:xfrm>
          <a:custGeom>
            <a:avLst/>
            <a:gdLst/>
            <a:ahLst/>
            <a:rect l="l" t="t" r="r" b="b"/>
            <a:pathLst>
              <a:path w="530" h="552">
                <a:moveTo>
                  <a:pt x="530" y="0"/>
                </a:moveTo>
                <a:lnTo>
                  <a:pt x="530" y="552"/>
                </a:lnTo>
                <a:lnTo>
                  <a:pt x="0" y="552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0640" y="2317680"/>
            <a:ext cx="1001880" cy="1114560"/>
          </a:xfrm>
          <a:custGeom>
            <a:avLst/>
            <a:gdLst/>
            <a:ahLst/>
            <a:rect l="l" t="t" r="r" b="b"/>
            <a:pathLst>
              <a:path w="631" h="702">
                <a:moveTo>
                  <a:pt x="0" y="0"/>
                </a:moveTo>
                <a:lnTo>
                  <a:pt x="0" y="702"/>
                </a:lnTo>
                <a:lnTo>
                  <a:pt x="631" y="702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52640" y="2130480"/>
            <a:ext cx="6209640" cy="2049480"/>
            <a:chOff x="1952640" y="2130480"/>
            <a:chExt cx="6209640" cy="2049480"/>
          </a:xfrm>
        </p:grpSpPr>
        <p:grpSp>
          <p:nvGrpSpPr>
            <p:cNvPr id="170" name=""/>
            <p:cNvGrpSpPr/>
            <p:nvPr/>
          </p:nvGrpSpPr>
          <p:grpSpPr>
            <a:xfrm>
              <a:off x="3087720" y="2130480"/>
              <a:ext cx="147600" cy="738360"/>
              <a:chOff x="3087720" y="2130480"/>
              <a:chExt cx="147600" cy="738360"/>
            </a:xfrm>
          </p:grpSpPr>
          <p:sp>
            <p:nvSpPr>
              <p:cNvPr id="171" name=""/>
              <p:cNvSpPr/>
              <p:nvPr/>
            </p:nvSpPr>
            <p:spPr>
              <a:xfrm>
                <a:off x="3087720" y="2130480"/>
                <a:ext cx="147600" cy="163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62240" y="2278080"/>
                <a:ext cx="0" cy="59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988040" y="2414520"/>
              <a:ext cx="174240" cy="870840"/>
              <a:chOff x="7988040" y="2414520"/>
              <a:chExt cx="174240" cy="870840"/>
            </a:xfrm>
          </p:grpSpPr>
          <p:sp>
            <p:nvSpPr>
              <p:cNvPr id="174" name=""/>
              <p:cNvSpPr/>
              <p:nvPr/>
            </p:nvSpPr>
            <p:spPr>
              <a:xfrm>
                <a:off x="7988040" y="2414520"/>
                <a:ext cx="174240" cy="192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075880" y="2588400"/>
                <a:ext cx="0" cy="69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952640" y="3841920"/>
              <a:ext cx="2419200" cy="338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Times New Roman"/>
                </a:rPr>
                <a:t>generateSQL 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296320" y="48355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Attribute (== tagged 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85680" y="5330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51960" y="35989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Stere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3627000" y="3313080"/>
            <a:ext cx="1484280" cy="501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299280" y="3830760"/>
            <a:ext cx="1743120" cy="11602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763800" y="3755880"/>
            <a:ext cx="1548000" cy="1293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3111480" y="4116240"/>
            <a:ext cx="1548000" cy="1293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2480" y="5711760"/>
            <a:ext cx="44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The icon «      » is a property of the stere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808000" y="4238640"/>
            <a:ext cx="6120" cy="1519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08280" y="5788080"/>
            <a:ext cx="231480" cy="3207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89B4-95AE-47DF-BF2D-3917AEFC2BE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85920" y="3141720"/>
            <a:ext cx="107172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 </a:t>
            </a: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93840" y="3454560"/>
            <a:ext cx="4846680" cy="29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Comic Sans MS"/>
              </a:rPr>
              <a:t>Extending Metaclass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500" spc="-1" strike="noStrike">
                <a:solidFill>
                  <a:srgbClr val="000066"/>
                </a:solidFill>
                <a:latin typeface="Comic Sans MS"/>
              </a:rPr>
              <a:t>A profile consists primarily of stereotyp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Comic Sans MS"/>
              </a:rPr>
              <a:t>restricted metaclasses that can only be used to extend existing metaclass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2430360" y="363528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metaclass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83040" y="364500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Be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559320" y="4044960"/>
            <a:ext cx="132048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3512160" y="3962880"/>
            <a:ext cx="217440" cy="1587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5400" y="3710160"/>
            <a:ext cx="9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{required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43240" y="5175360"/>
            <a:ext cx="1117800" cy="6969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ession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8240" y="5167440"/>
            <a:ext cx="1117440" cy="7128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59320" y="4437000"/>
            <a:ext cx="262080" cy="131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05200" y="4568760"/>
            <a:ext cx="784440" cy="609840"/>
          </a:xfrm>
          <a:custGeom>
            <a:avLst/>
            <a:gdLst/>
            <a:ahLst/>
            <a:rect l="l" t="t" r="r" b="b"/>
            <a:pathLst>
              <a:path w="494" h="384">
                <a:moveTo>
                  <a:pt x="494" y="0"/>
                </a:moveTo>
                <a:lnTo>
                  <a:pt x="494" y="192"/>
                </a:lnTo>
                <a:lnTo>
                  <a:pt x="0" y="192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9640" y="4873680"/>
            <a:ext cx="812880" cy="274680"/>
          </a:xfrm>
          <a:custGeom>
            <a:avLst/>
            <a:gdLst/>
            <a:ahLst/>
            <a:rect l="l" t="t" r="r" b="b"/>
            <a:pathLst>
              <a:path w="512" h="173">
                <a:moveTo>
                  <a:pt x="0" y="0"/>
                </a:moveTo>
                <a:lnTo>
                  <a:pt x="512" y="0"/>
                </a:lnTo>
                <a:lnTo>
                  <a:pt x="512" y="173"/>
                </a:lnTo>
              </a:path>
            </a:pathLst>
          </a:custGeom>
          <a:noFill/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38560" y="5742000"/>
            <a:ext cx="1117800" cy="3636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: State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71760" y="5181480"/>
            <a:ext cx="111744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enumeration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Kind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67080" y="5748480"/>
            <a:ext cx="111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47F2-7073-41F2-A805-B06E96DBF26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Comic Sans MS"/>
              </a:rPr>
              <a:t>Applying a Profi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200160" y="974880"/>
            <a:ext cx="10713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 </a:t>
            </a: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8080" y="1287360"/>
            <a:ext cx="4846680" cy="29466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4600" y="146844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metaclass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7280" y="1477800"/>
            <a:ext cx="1117440" cy="79884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Be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572840" y="1878120"/>
            <a:ext cx="13208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1526400" y="1796040"/>
            <a:ext cx="217440" cy="1587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79280" y="1542960"/>
            <a:ext cx="9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{required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57480" y="3008160"/>
            <a:ext cx="1117440" cy="6969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ession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2120" y="3000240"/>
            <a:ext cx="1117800" cy="7128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73560" y="2270160"/>
            <a:ext cx="261720" cy="131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9440" y="2401920"/>
            <a:ext cx="784080" cy="609480"/>
          </a:xfrm>
          <a:custGeom>
            <a:avLst/>
            <a:gdLst/>
            <a:ahLst/>
            <a:rect l="l" t="t" r="r" b="b"/>
            <a:pathLst>
              <a:path w="494" h="384">
                <a:moveTo>
                  <a:pt x="494" y="0"/>
                </a:moveTo>
                <a:lnTo>
                  <a:pt x="494" y="192"/>
                </a:lnTo>
                <a:lnTo>
                  <a:pt x="0" y="192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3520" y="2706840"/>
            <a:ext cx="812880" cy="274320"/>
          </a:xfrm>
          <a:custGeom>
            <a:avLst/>
            <a:gdLst/>
            <a:ahLst/>
            <a:rect l="l" t="t" r="r" b="b"/>
            <a:pathLst>
              <a:path w="512" h="173">
                <a:moveTo>
                  <a:pt x="0" y="0"/>
                </a:moveTo>
                <a:lnTo>
                  <a:pt x="512" y="0"/>
                </a:lnTo>
                <a:lnTo>
                  <a:pt x="512" y="173"/>
                </a:lnTo>
              </a:path>
            </a:pathLst>
          </a:custGeom>
          <a:noFill/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66840" y="3575160"/>
            <a:ext cx="1117800" cy="3636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: StateK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5640" y="3014640"/>
            <a:ext cx="111780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enumeration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Kind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960" y="3581280"/>
            <a:ext cx="11178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tate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61000" y="2946240"/>
            <a:ext cx="1071720" cy="3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User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54520" y="3259080"/>
            <a:ext cx="3192480" cy="15382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5051160" y="2430000"/>
            <a:ext cx="1160280" cy="5223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71920" y="229716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apply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10120" y="3638520"/>
            <a:ext cx="111780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ession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ustomer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05440" y="4205160"/>
            <a:ext cx="11178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name: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789600" y="3664080"/>
            <a:ext cx="191880" cy="234720"/>
            <a:chOff x="6789600" y="3664080"/>
            <a:chExt cx="191880" cy="234720"/>
          </a:xfrm>
        </p:grpSpPr>
        <p:sp>
          <p:nvSpPr>
            <p:cNvPr id="227" name=""/>
            <p:cNvSpPr/>
            <p:nvPr/>
          </p:nvSpPr>
          <p:spPr>
            <a:xfrm>
              <a:off x="6836760" y="3664080"/>
              <a:ext cx="144720" cy="23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9600" y="3695400"/>
              <a:ext cx="90720" cy="5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95360" y="3799080"/>
              <a:ext cx="90720" cy="5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V="1">
            <a:off x="7551720" y="3635280"/>
            <a:ext cx="1103400" cy="37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ahoma"/>
              </a:rPr>
              <a:t>state=statel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24680" y="3781440"/>
            <a:ext cx="52236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5397480"/>
            <a:ext cx="7493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pplying a profile makes the profile extension available to the model packages to which it is appli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E180-12A3-40DE-94B5-884A8D6D24A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6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9EB9-640A-4DCA-A615-C653BFAC01C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Comic Sans MS"/>
              </a:rPr>
              <a:t>Metamodel Excerp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1401840" y="2313000"/>
            <a:ext cx="1422360" cy="725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93920" y="3843360"/>
            <a:ext cx="1422360" cy="725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2880" y="3041640"/>
            <a:ext cx="304560" cy="16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3201840"/>
            <a:ext cx="0" cy="6382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64040" y="2319480"/>
            <a:ext cx="1422360" cy="725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6120" y="3849840"/>
            <a:ext cx="1422360" cy="725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Stere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45080" y="3048120"/>
            <a:ext cx="304560" cy="16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9440" y="3208320"/>
            <a:ext cx="0" cy="6382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9520" y="2322360"/>
            <a:ext cx="1422360" cy="7257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1600" y="3852720"/>
            <a:ext cx="1422360" cy="7257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70560" y="3051000"/>
            <a:ext cx="304920" cy="160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14920" y="3211560"/>
            <a:ext cx="0" cy="6382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95920" y="2330280"/>
            <a:ext cx="1422720" cy="7257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Package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3860640"/>
            <a:ext cx="1422360" cy="7257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</a:rPr>
              <a:t>Profile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76960" y="3059280"/>
            <a:ext cx="304920" cy="16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21680" y="3219480"/>
            <a:ext cx="0" cy="6382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8D1D-1E8E-4CD1-B809-6DBFDF43169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Comic Sans MS"/>
              </a:rPr>
              <a:t>Multiple Stereotyp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585720" y="1627200"/>
            <a:ext cx="107172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 </a:t>
            </a: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" y="1940040"/>
            <a:ext cx="3598560" cy="26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120" y="212076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metaclass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68760" y="213048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Home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944720" y="2530440"/>
            <a:ext cx="8287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1897560" y="2448360"/>
            <a:ext cx="217800" cy="1587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6400" y="362592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Remote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380960" y="2936880"/>
            <a:ext cx="0" cy="6825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43080" y="2922480"/>
            <a:ext cx="290520" cy="1285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27480" y="1620720"/>
            <a:ext cx="107172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 </a:t>
            </a: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21360" y="1933560"/>
            <a:ext cx="3598920" cy="26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57880" y="211464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metaclass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0520" y="362412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metaclass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Interface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86480" y="4024440"/>
            <a:ext cx="8287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rot="5400000">
            <a:off x="7124760" y="3942360"/>
            <a:ext cx="217440" cy="1587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48160" y="3619440"/>
            <a:ext cx="1117800" cy="6825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stereotyp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reator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923080" y="2930040"/>
            <a:ext cx="0" cy="6829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84840" y="2916360"/>
            <a:ext cx="290520" cy="1285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45280" y="4251240"/>
            <a:ext cx="1117440" cy="2905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date: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51120" y="4869000"/>
            <a:ext cx="1071720" cy="3189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User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59040" y="5181480"/>
            <a:ext cx="4281480" cy="12193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4640" y="5560920"/>
            <a:ext cx="132084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remote, creator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ustomer</a:t>
            </a:r>
            <a:r>
              <a:rPr b="1" i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5240" y="5553000"/>
            <a:ext cx="132084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32240" y="5921280"/>
            <a:ext cx="1147680" cy="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16160" y="558468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25320" y="5937120"/>
            <a:ext cx="26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6280" y="4614840"/>
            <a:ext cx="841320" cy="1015920"/>
          </a:xfrm>
          <a:custGeom>
            <a:avLst/>
            <a:gdLst/>
            <a:ahLst/>
            <a:rect l="l" t="t" r="r" b="b"/>
            <a:pathLst>
              <a:path w="530" h="640">
                <a:moveTo>
                  <a:pt x="530" y="640"/>
                </a:moveTo>
                <a:lnTo>
                  <a:pt x="0" y="6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b2b2b2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039800" y="4610160"/>
            <a:ext cx="841320" cy="1015920"/>
          </a:xfrm>
          <a:custGeom>
            <a:avLst/>
            <a:gdLst/>
            <a:ahLst/>
            <a:rect l="l" t="t" r="r" b="b"/>
            <a:pathLst>
              <a:path w="530" h="640">
                <a:moveTo>
                  <a:pt x="530" y="640"/>
                </a:moveTo>
                <a:lnTo>
                  <a:pt x="0" y="6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b2b2b2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07800" y="473076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apply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19640" y="480996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apply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636480"/>
            <a:ext cx="7043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Several stereotypes can be applied to a model element. A specific notation supports this fea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984120" y="1282680"/>
            <a:ext cx="723960" cy="4462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FCA8-B0FA-4B77-9D89-AAE7746B8CD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tereotype extension semantic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5206" t="50696" r="6990" b="17808"/>
          <a:stretch/>
        </p:blipFill>
        <p:spPr>
          <a:xfrm>
            <a:off x="816120" y="1206360"/>
            <a:ext cx="7399080" cy="16416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rcRect l="5280" t="38617" r="3098" b="19432"/>
          <a:stretch/>
        </p:blipFill>
        <p:spPr>
          <a:xfrm>
            <a:off x="552600" y="4157640"/>
            <a:ext cx="8072280" cy="15908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42960" y="2833560"/>
            <a:ext cx="8050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Extension is not to be confused with Generalization. It is indeed a delegation pattern. Below, a MOF equivalent construct is shown. The dynamic extensibility features of profiles are due to the capacity to add links to stereotype instances on existing model ele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F7B0-75F0-4D24-AB78-6B0DC8AD522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295280" y="129528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1480" y="313848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&lt;stereotype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444680" y="2009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39920" y="19954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29080" y="136368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62360" y="319248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605560" y="2063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00800" y="20494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2120" y="4146480"/>
            <a:ext cx="44211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Semantic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Extension can extend existing « ExtendedClass »  or subclass instanc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Class2 instances can for example also be extended by « Extension »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33760" y="3176640"/>
            <a:ext cx="1403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as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957400" y="19904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52640" y="1976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94640" y="3218040"/>
            <a:ext cx="1403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as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132680" y="2087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27920" y="20732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3000" y="4110120"/>
            <a:ext cx="4122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« Usual » Semantic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There will exist once for all separated « Extension » instances, « Class2 » instances and also « ExtendedClass only» instanc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Extension semantics (VS Generalization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B0D4-5818-41F5-B394-6D7D7FE9FDA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23720" y="133812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1480" y="3138480"/>
            <a:ext cx="2681280" cy="67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&lt;stereotype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444680" y="2009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39920" y="19954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963960"/>
            <a:ext cx="451332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Semantic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Extension can extend either (exclusively) ExtendedClass1 or ExtendedClass2. Extension does not define a « merge instance » of ExtendedClass1 and ExtendedClass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53000" y="4135320"/>
            <a:ext cx="44910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« Usual » Semantic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« Extension » instance will always be also instances of  ExtendedClass1 and ExtendedClass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76520" y="1333440"/>
            <a:ext cx="1981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997360" y="2004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92600" y="19908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34000" y="1347840"/>
            <a:ext cx="1981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1760" y="3147840"/>
            <a:ext cx="2681280" cy="67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&lt;stereotype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754600" y="2018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86440" y="134316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307280" y="2014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41920" y="20448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80200" y="1996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Extension semantics (1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F599-4313-41A2-AC72-AE8A63004F0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295280" y="129528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1680" y="3152880"/>
            <a:ext cx="1981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&lt;stereotype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344680" y="1980720"/>
            <a:ext cx="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39920" y="19670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4029120"/>
            <a:ext cx="416088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Semantic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An instance of « ExtendedClass » will be able to be simultaneously extended by « Extension1 » and « Extension2 »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45160" y="4213080"/>
            <a:ext cx="40827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« Usual » Semantic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There may exist separate instance of « Extension1 » extending « ExtendedClass » and « Extension2 » extending « ExtendedClass »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54400" y="3176640"/>
            <a:ext cx="1981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&lt;stereotype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71680" y="2629080"/>
            <a:ext cx="15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00120" y="262908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7200" y="263844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05440" y="131904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ded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11840" y="3176640"/>
            <a:ext cx="19810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954840" y="2004480"/>
            <a:ext cx="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64200" y="3200400"/>
            <a:ext cx="19814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ns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81840" y="2652840"/>
            <a:ext cx="15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10280" y="2652840"/>
            <a:ext cx="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77000" y="2662200"/>
            <a:ext cx="0" cy="5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37480" y="1996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08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Extension semantics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104D-E943-4FBA-9FCF-7D4BEC56856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Miscellaneou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61440" y="110124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extension can be “required”. In this case, when a profile is applied to a model, each element which metaclass is extended by a required stereotype will be extended by this stereotyp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stereotype cannot inherit a metaclass, nor the opposit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extended metamodel is called the reference metamodel. It is a “read only” meta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tereotype properties can have complex types (such as classes/metaclasse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ssociations can exist, navigable from a stereotype to a metaclass or stereotyp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B706-7342-405E-AB70-1E93F68B0B96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UML Profiles : Table of conten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finition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Benefits &amp; positioning VS MOF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Histor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Not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mantic &amp; Mechanism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2DFE-20CC-4F70-8DDB-02911139AE5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66"/>
                </a:solidFill>
                <a:latin typeface="Comic Sans MS"/>
              </a:rPr>
              <a:t>Profiles (Definition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4440" y="982440"/>
            <a:ext cx="5191200" cy="18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100" spc="-1" strike="noStrike">
                <a:solidFill>
                  <a:srgbClr val="000066"/>
                </a:solidFill>
                <a:latin typeface="Comic Sans MS"/>
              </a:rPr>
              <a:t>A profile is used to tailor a metamodel (like UML) to a specific platform or domai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6"/>
                </a:solidFill>
                <a:latin typeface="Comic Sans MS"/>
              </a:rPr>
              <a:t>used to tag a design with information that is not captured in UM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7629480" y="2438280"/>
            <a:ext cx="362160" cy="203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4160" y="261936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473520" y="2307960"/>
            <a:ext cx="1160280" cy="5223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45680" y="217476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import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3720" y="2990880"/>
            <a:ext cx="362160" cy="20304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8400" y="317196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50000" y="3665520"/>
            <a:ext cx="362160" cy="20304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54680" y="384660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E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94320" y="4824360"/>
            <a:ext cx="361800" cy="203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000" y="500544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SP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05880" y="5243400"/>
            <a:ext cx="361800" cy="203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810560" y="542448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70480" y="1585800"/>
            <a:ext cx="362160" cy="2034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75160" y="1766880"/>
            <a:ext cx="111780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38440" y="5048280"/>
            <a:ext cx="362160" cy="20304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29080" y="5229360"/>
            <a:ext cx="1117440" cy="79848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«profile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ahoma"/>
                <a:ea typeface="Tahoma"/>
              </a:rPr>
              <a:t>Real-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C1EC-C052-449A-A6C2-0B80EF4D505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s (Definition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profile defines a coherent extension to UML in order to adapt it to a specific target or domain.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tereotypes allow to define extensions : Kind of metaclasses that extend UML metaclasses.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tension is expressed by a new specific notat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agged-values are defined as specific attributes of stereotypes.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B71E-6B10-4DCA-BC96-CE36207121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7200" y="206280"/>
            <a:ext cx="7383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files extension feature (benefit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2800" y="1493640"/>
            <a:ext cx="89708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ML Profile is a restricted extension mechanism which 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fines extensions that can be dynamically added to or retracted from an existing model (extension flexibility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Guarantees that the model will remain consistent with the UML standard, even when extended by one or several profiles.  (Standard UML conformance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Preserves UML semantics for the extended 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tended models can be exchanged with or without their extens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FD15-57FC-496C-A76B-EFBECA0740E6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" dur="1" fill="hold"/>
                                  <p:tgtEl>
                                    <p:spTgt spid="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" dur="1" fill="hold"/>
                                  <p:tgtEl>
                                    <p:spTgt spid="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5" dur="1" fill="hold"/>
                                  <p:tgtEl>
                                    <p:spTgt spid="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Extending UML : </a:t>
            </a:r>
            <a:br>
              <a:rPr sz="2400"/>
            </a:b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tandard conformance guarantee (benefits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7320" y="1087560"/>
            <a:ext cx="861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MDA requires a high degree of formalization of the different models, architectures, and methodologie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n addition, mappings have to be specified in detail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is involves highly skilled people, and implies a great risk to developmen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t necessitates investments in time and money before starting development, and getting ROI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endParaRPr b="0" lang="en-US" sz="34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Comic Sans MS"/>
              </a:rPr>
              <a:t>Using UML profiles guarantees that the adapted models will still be legal UML model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Comic Sans MS"/>
              </a:rPr>
              <a:t>Many Standard Profile solutions exist for some PSM’s or PIMS (examples : CORBA, EJB, Test, SysML, Qos, CCM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Comic Sans MS"/>
              </a:rPr>
              <a:t>Some very important targets have not yet standard  profiles, but on the shelf solutions (RDB, C++, etc.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Comic Sans MS"/>
              </a:rPr>
              <a:t>Build on a common basis: low learning curve, existing tools, interoperability, etc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4FCC-62B0-4C89-84DD-EA6D192F4FF8}" type="slidenum">
              <a:t>7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8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Example of a profile based (benefits) </a:t>
            </a:r>
            <a:br>
              <a:rPr sz="2400"/>
            </a:b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MDA configur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1295280"/>
          <a:ext cx="7467480" cy="50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746748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E713-976C-4977-8B59-74D9181B30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UML for a specific purpose (benefits) </a:t>
            </a:r>
            <a:br>
              <a:rPr sz="2400"/>
            </a:b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= a specific profi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6640" y="124416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Profiles exist for 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echnical targets (C++, RDB, Java, CORBA, XML, Real Time, etc.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pecific disciplines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(Analysis, Design, etc.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quirement analysi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ests (test for Java, test for EJB, test for C++, etc.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etrics, quality checking, and profiles for managing configuration management rul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rom early requirement down to final tests, UML profiles can drive each specific discipline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volve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B3F6-42CC-4B58-ACF0-BC0070D21C9D}" type="slidenum">
              <a:t>9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David Touzet</dc:creator>
  <dc:description/>
  <dc:language>en-US</dc:language>
  <cp:lastModifiedBy>Kurtev</cp:lastModifiedBy>
  <dcterms:modified xsi:type="dcterms:W3CDTF">2006-07-17T11:36:14Z</dcterms:modified>
  <cp:revision>877</cp:revision>
  <dc:subject/>
  <dc:title>Models Manip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04776</vt:r8>
  </property>
  <property fmtid="{D5CDD505-2E9C-101B-9397-08002B2CF9AE}" pid="3" name="_AuthorEmail">
    <vt:lpwstr>jean.bezivin@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ModelWare 4.6</vt:lpwstr>
  </property>
  <property fmtid="{D5CDD505-2E9C-101B-9397-08002B2CF9AE}" pid="6" name="_ReviewingToolsShownOnce">
    <vt:lpwstr/>
  </property>
</Properties>
</file>